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3B3-E1A1-431F-B9E8-9F5C3850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5AC-D25B-4A8D-87AF-74B40CA4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574-BC14-49E3-A048-EDAAA12A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A69-C1CD-41E8-9D93-625464C4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B15A-285E-4E39-BA4A-A9C3D4C0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B060-D789-4507-9F48-B3C4FC8D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EE25-EA7A-4B27-AE53-7F9DCF13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D36B-7CFE-40FA-9331-39555CC9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5A76-8D92-41A1-865F-6C49C1F9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4C56-9D25-4324-9623-5F337C65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839F-5FCC-49D5-A0BA-FC48074F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712B-5437-4ECB-A456-E0760606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3EAF-255E-46F1-8661-B24C4BB9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3021-5524-45F4-985D-05FB7137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A923-C571-436D-AAAE-C6939A3C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75DB-97AE-46A9-91B4-2838B936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131D-D341-4D42-AFD4-E5B0DFF1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50D-73DE-4714-98EC-CFE4A729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ECC-2ABE-45B0-8CFD-BA7C4C92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6A6-B1A8-4F6E-8E2C-81486F49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499-2275-4677-8EDA-46F29A41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528-B34E-49CA-95D2-D17A2F61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099-539B-4AA9-9D75-514123BB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92F-D81B-4E73-B57F-110F61B6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FB0-20A3-49BB-8EDD-E4E6BDE05D55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EF26-7F85-4984-8C9A-97CEAA49F237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ional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28600" y="2590920"/>
                <a:ext cx="849168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3-18 (multiples of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9-29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order to clear the frac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every term by the LCD (least common denomin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lears the denominators and leaves you with the new num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tri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check to see if there are any restric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209680" y="2819520"/>
                <a:ext cx="39052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1776240" y="2819520"/>
                <a:ext cx="47739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1219320" y="2819520"/>
                <a:ext cx="588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94040" y="2819520"/>
                <a:ext cx="43401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095480" y="2819520"/>
                <a:ext cx="613872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lv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2438280"/>
                <a:ext cx="849456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5:17:53Z</dcterms:created>
  <dc:creator>Parkland High School</dc:creator>
  <dc:description/>
  <dc:language>en-US</dc:language>
  <cp:lastModifiedBy>test</cp:lastModifiedBy>
  <dcterms:modified xsi:type="dcterms:W3CDTF">2015-05-08T12:04:26Z</dcterms:modified>
  <cp:revision>2</cp:revision>
  <dc:subject/>
  <dc:title>Rational Equations</dc:title>
</cp:coreProperties>
</file>